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EF6-7BE1-4424-A17D-BB2F5CB5461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A42B-6EDB-4EBA-B154-3FC931B2135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EDEE-E6EF-4926-AB65-BA6782F9A1A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DFAE-5D4E-41DE-BB5F-F0F2B24440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749D-3DDA-4921-9C8E-23A83AD596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7C70-D9DE-4E02-B462-268DB23B47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CEAE-FE38-492F-8F0D-3CFD006AA7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96E9-320E-41DA-9759-97A2306745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D4ED-5A17-4CAD-80C1-6D2DD2A885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409C-32CC-49FE-BD1F-5F2E98B70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5754-596B-42CB-9A63-3D6F6EC536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693C-CACF-43F6-A80B-CA8D518C94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C072-866E-4649-8E19-E95B6520B0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C99A-7CF3-4412-9DBC-9ED23D70F7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9169-1F4F-4505-957F-45B8EAD359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C1B7-C2A3-40D0-8899-0F2F2637797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BFA-0DE6-4C2D-8A9E-0B4E461A445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F2BB-B9C2-4265-A7E4-B8890738623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D077-35F4-40F1-9DF8-738ABAC9E6B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FA16-FD74-40FA-AF1F-1E1DB516C9D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6BE1-C2FC-4B45-85DD-91BF7A41B08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1908-FB50-4D64-8CDE-B8BF16215AB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6E27-B8FE-4760-8527-414A3ADE209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8BD0-F52B-409E-83A3-93A273C713F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6311-C669-479B-B93F-0F470F41A6E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6CCA-F58F-4CD7-B16B-2F1969436A9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63"/>
          <p:cNvSpPr/>
          <p:nvPr/>
        </p:nvSpPr>
        <p:spPr>
          <a:xfrm>
            <a:off x="647640" y="61977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8A3D-A734-414E-9EF2-EE6A92ED89D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B04F-E0FA-4167-85B6-278A43ACFED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01A7-6844-4F24-9BF3-3C901A4F59D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BE80-43B3-40B6-AC7C-FBADEBB801F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87D5-C3EA-45C0-B482-84EBECE47C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5D71-2474-4109-A1EA-C130774D2A1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B214-85DE-4255-9D34-149F6E83E5E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DFA-EEE9-474E-B19E-970EEC70977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1D14-0F60-4EE8-B936-861320C89AD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2076-76BD-4377-BD86-BBB4DC8ACC5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1FF7-6B02-4F8A-9CB5-E04DD7C726A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DB96-81FF-43AB-BC81-25F3426A8DB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82FB-C8A0-471B-B9BA-55B65C86B02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#SekretaerinnenVonStuder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SusanneWint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EF83-D077-4D60-8EDB-9FB207D9193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5F0F-8177-46BD-AC0C-1BB1A05A8C0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FED6-2F61-477A-A0CA-ACE6EBF23BE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about="#AngehoerigeAG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6C32-7D49-4545-A8C7-0404B2E4B78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D90-3891-4DAF-B18F-92A5FD49A14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9CD0-5C75-4FBB-94D6-EC1EB56111E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C346-A7C0-4228-82B6-6B332BD8DC8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C7F-14FC-482A-9105-5AE78B246D2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83C-4AA0-4E90-99CA-C6987B5A813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8433-B528-49A0-AFA5-521CFA1331A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CF77-354C-43EC-80F9-4BFDC7A4792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0C40-5D1C-473B-A0D8-C544A149A4E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526C-D0EC-43B2-8D32-5D82E2C9847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90ED-D23C-4751-9AD4-F7888BB053D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#RudiStuder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84C6-8BBC-4FDE-94CE-AF6F173D20C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7404-B783-4A76-86A9-AFF99FFB18A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99CB-F97C-4847-BD68-D8F2911651F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F72F-3054-4039-9AFC-3101FE7AFCB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7209-E251-4E3B-9687-242080B92C3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3C2D-1175-4C6B-B9DD-FCA4245826A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8E18-05C7-495E-9B70-5906BF5DC7F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6B3C-CA3D-4C67-BAC2-A7E6B5CE8D1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4E29-456E-4C40-96D8-9552DAAA4FE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A31F-7565-4E1B-8F55-6391D9689B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B4A0-4580-441C-9D4F-D70960B6D22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01ED-4853-4FF8-9D55-DAD26E99A45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152-6742-4F7F-94A1-80E4B6A06AF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8F6-8A31-4D22-AE9E-D364817FD2B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0CFC-758D-496E-A8CE-936BE96D621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2D8E-016A-413E-A7F2-A2AE1A0B555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05CE-7F0E-455F-B4B9-0AB94C928B6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3A9A-477D-4489-B0A2-6D27BACB1D5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A7AD-17F0-45F0-840D-BF25CCC87A2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D31A-1D1E-45D9-9495-B1F01F7CEA2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D674-64F0-4EE9-85C7-D7E594E8620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4B9F-BF82-456F-BC95-4A7BDEAAF21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6FC4-67A5-4013-A0F3-748F4437D33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267B-71AA-49E8-BE1D-CD4F7BA9979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C826-5B35-4489-AB57-DAA44D40653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F8FB-DC68-4443-92CB-049207BB099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90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1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4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6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7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400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2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3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5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6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8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6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7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8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9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1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2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3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4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3"/>
          <p:cNvSpPr/>
          <p:nvPr/>
        </p:nvSpPr>
        <p:spPr>
          <a:xfrm>
            <a:off x="8048160" y="3338640"/>
            <a:ext cx="150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7958520" y="4076640"/>
            <a:ext cx="2347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6718680" y="2247840"/>
            <a:ext cx="224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5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6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9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1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2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5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8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1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3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4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6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7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9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60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2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4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5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7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1972080" y="7340760"/>
            <a:ext cx="3201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D614-9253-4CBE-B219-AF088F23BF4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2:35:37Z</dcterms:created>
  <dc:creator/>
  <dc:description/>
  <cp:keywords/>
  <dc:language>en-US</dc:language>
  <cp:lastModifiedBy>Sebastian Rudolph</cp:lastModifiedBy>
  <dcterms:modified xsi:type="dcterms:W3CDTF">2008-12-02T22:47:49Z</dcterms:modified>
  <cp:revision>2</cp:revision>
  <dc:subject/>
  <dc:title>Grundlagen Semantic Web</dc:title>
</cp:coreProperties>
</file>